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6B61-3023-4767-B58E-5E3433D3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 of participants and overview of the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the person besid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D88-6EA4-40A3-8FC9-1981A573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09D-3D2B-421A-9421-26D6499D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445-ED2B-4F83-A07A-4C8A4418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139-F5E4-487E-8BCE-5B984E38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7BD-DD19-4F30-8023-A28F4B2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292-C06F-4AB5-BFC5-D509670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D99-8003-467F-AFD3-54F112FD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FC0-483B-4F12-BF44-7D5AF4FC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82E-03BA-46F3-94AF-E8C97DF5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DE7-8ABE-4803-BB18-8CBCAF64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15A-41D8-4282-94BD-3095FB2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587-DD18-4FBF-8BDC-B20FAE2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63D-E700-4CD2-992A-6600A3A4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sources%20for%20the%20ipod/transportation%20-%20vocabulary.wmv" TargetMode="External"/><Relationship Id="rId3" Type="http://schemas.openxmlformats.org/officeDocument/2006/relationships/hyperlink" Target="file:///resources%20for%20the%20ipod/Let%20Me%20Die%20In%20My%20Footsteps%20Cloze%20Test.m4v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mangum@wcpss.net" TargetMode="External"/><Relationship Id="rId3" Type="http://schemas.openxmlformats.org/officeDocument/2006/relationships/hyperlink" Target="mailto:lsavage@wcpss.net" TargetMode="External"/><Relationship Id="rId4" Type="http://schemas.openxmlformats.org/officeDocument/2006/relationships/hyperlink" Target="mailto:ipods4classrooms@wikispaces.co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du.edu/educ/roverbau/bloom/blooms_taxonomy.ht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Pods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eaching and learning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nect, Communicate and Create</a:t>
            </a:r>
            <a:br>
              <a:rPr sz="4000"/>
            </a:br>
            <a:br>
              <a:rPr sz="60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ncy Mangu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amp; Larry Sav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ember  2008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review listening activities in a saf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2203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Pods can help our ESL students w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8120" y="3047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re are lots of resources on the web for using iPods with our ESL stud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ods4classroom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en you find resources on the web you must first convert them to the mp4 format so they can be converted onto the iPod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lso created some of our own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– vocabulary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tory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ocabulary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tasia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oz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ime upfront with the teachers to focus on curriculum ideas to incorporate the iPods on a daily basis and creating alternative assess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do not keep any cords, they have to upload and charge at school.  This prevents them from recording music on the iP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one-to-one computer access for syncing i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rav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ommunication needed up-front with parents and students about the ownership responsibility for th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d carrying cases for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mangum@wcpss.net</a:t>
            </a: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savage@wcpss.net</a:t>
            </a:r>
            <a:br>
              <a:rPr sz="4000"/>
            </a:br>
            <a:br>
              <a:rPr sz="40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pods4classrooms.wikispaces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iPods in the ESL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nnect</a:t>
            </a:r>
            <a:br>
              <a:rPr sz="54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udents to their learning and motivate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Cre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gher order thinking skills for our stud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mmunic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ive students a vo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can iP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 used in the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5911920"/>
            <a:ext cx="916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are able to listen and watch lessons that focus on English language acqui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61084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791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listen to and follow along with written text to reinforce writte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220320" cy="600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5791320"/>
            <a:ext cx="734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ble to record themselves to work on oral languag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5:45:32Z</dcterms:created>
  <dc:creator>nancy_mangum</dc:creator>
  <dc:description/>
  <dc:language>en-US</dc:language>
  <cp:lastModifiedBy>nancy_mangum</cp:lastModifiedBy>
  <dcterms:modified xsi:type="dcterms:W3CDTF">2008-12-06T15:04:16Z</dcterms:modified>
  <cp:revision>13</cp:revision>
  <dc:subject/>
  <dc:title>   iPods for  teaching and learning   Connect, Communicate and Create  Nancy Mangum &amp; Larry Savage December 5, 2008   </dc:title>
</cp:coreProperties>
</file>